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gif" ContentType="image/gif"/>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7442B-FEA1-4771-BB1F-1C26BE1C8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89489-1A80-415D-9907-8AAF5FDF8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7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6278E8-89FC-442A-A669-D0F8145B08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25BC0D-CAEB-49DE-A735-5165C77232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606C67-5379-4673-A3AB-29A3D15C52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7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405D29-CE75-4B03-8D6F-C767562DC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118355-2E74-42BD-AED8-BECA3F839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8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5401D0-49A6-43BC-BF95-19B9A44A0D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9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94022F-F14D-4341-83B9-A5C24800A6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7EA1EF-E3FC-4308-A0DE-4560CAB2D2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9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028777-2FB9-4F4B-9471-B177702A22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8924343F-13C0-4C5B-8A30-F21FF556F09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F0483-B65A-4E06-9BBF-4E960F94C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1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38532A9E-0E8D-4C8C-BF64-D911653E410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1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BE9CB42D-B2A1-4611-AB73-03198BC3DFA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1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89E98BF9-EA1D-4898-9DB4-55B631AA320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BE3EED39-D2BC-438D-995C-9B5E12EC4CB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B7ED5362-97B8-4D41-BD6A-7A7BD97761C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2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235B00FF-969A-48B5-98D8-87DDF3FB819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2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D5D795AD-5964-44CF-9054-2E31FAAE5D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2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F1532CAE-FA79-4807-B1A3-E6218317D5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3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3C7DFD86-0B93-4E7E-BA65-B04740988AC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3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E3B10C0F-A9A2-42B0-9F80-290F516B757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8281A-F0D6-45F7-BD12-D8F793742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4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86A5B5A5-32E0-423E-B4F7-ECFC1C45FD4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65A27626-07AE-4B5E-82D9-B11C5DFD57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5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4410B63-97B5-468A-8CBC-61E3529DE5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5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251E064-FD1F-44D1-993E-53AF8288B7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5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88A3CAF-E0AB-4645-81A1-95BD18A4BA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8E63634-6162-4FD0-8DFD-9D18D70047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6E5967D-D5ED-42FF-9336-4F70AB1D23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6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9CC4955-9181-4DBE-8231-56981DEF32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6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36917B5-2F75-47CB-A7D8-AEF768DC8C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7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CB88105-D72B-4F66-BC96-B92D4661A0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657DF-BF21-4167-8531-56FB3438D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7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822C0ED-E59D-4950-BB3C-4C77B5198C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7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23096D4B-5CC8-4D56-81F5-3AD6E09E40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8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F7AA15B8-2CBC-4E40-B967-E7F56A07F49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7649137-1F28-4289-804E-86DD79120D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9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50BCF5A-9A60-4851-8CFF-A500435812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9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AED7E1E-3DED-49F0-A8D7-DC1841E87F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9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427EB17-35E9-401D-885C-A97DC3F3EF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59CE098-CC0A-4D0B-A1D6-BC4E7F36D4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5D76D0E-59D1-4ED9-8720-FA83CAF921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CC59DA9-ABD9-4E7A-B113-994F084FC0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93632-C996-4842-9121-0A008731B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15D9831-8D5A-4E77-A3C9-BA2AEBFF5B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1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1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1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CDA954B-9B4A-4876-B288-FC371428BA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1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1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15E75A9-3000-416A-B7CE-BB009C79E8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1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1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F7E8946A-F91F-4F48-83FE-A933A13C93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DD7B99BA-214D-43AA-A744-0BF930B1F8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B336E-90E6-4C40-9662-D36F94840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127F5-6175-467C-A005-8B26CFCEE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29AD0-7F85-4BC2-A325-D8A370A22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9AFDF-02A7-4213-BEB3-E7718B093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2D399-BF82-4106-AE68-F33083573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A73C5-F23B-487B-AEAE-4E3D550F0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32CD0-ED6F-44ED-A7C5-3F3532C4D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37C8F-AF40-4589-BC17-1AE317FE5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6E15A-A8B7-49EB-B7C4-FA4CA850A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821B0-B457-4770-8860-4EC4522B6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C9926-9CBF-4B9A-80CD-66763D20F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9B06D2-C0EB-453C-A039-776684351C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E32FAD-7FD2-4324-BF19-9BAFF9CA4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4DC73-89ED-4DA1-BC8E-B6732536E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B62F4-FA02-48A8-9E09-B142F5C01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83AA95-63C8-4980-8A1C-D2287FC5BA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7912B-6E59-46C6-8252-18602A791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B3A65D-9CB4-40C1-A079-3EA3745884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2976D-3826-47E8-BAF8-5448BAACD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873A6-EFB2-48AF-B236-E7D5DC3AC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620C6-15C7-4303-B79D-0BD390C15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99C97-1149-44A9-BBC1-535A4DD44C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EFD3EC-2E79-494C-B417-2303030B6A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0FFF86-A510-45E4-A04C-E821B3DF85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3E4DAA-5775-4B73-82EE-4AE2E2C336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145D2A-C610-4E14-94C2-763CF4879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2AE52-A32B-4BA6-B2C9-D6E0857F55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27C1C-41EA-4220-991F-6E6D87058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3D700D-0376-4179-92CB-D8F47406C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4598FC-67CE-4713-B3ED-74214E6AC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EBBCC-809B-4238-8A70-CE701D415F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5D9D8-1228-4853-B0A8-51F6B595D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5FE57-5EC5-4A9C-84EB-5909E5071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9C4EE-CD14-4B13-97BE-F8470B8D7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535FD-4182-4C8B-9E99-DBAA3E11B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5E45BE-FF55-4F37-A760-B90F9D21CC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E99435-A257-46CD-9442-C4B6548D15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C78A9D-ACD9-4B62-AAB3-DAB8E4417E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39E57-7496-4B34-90BE-0FA7063EE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07EBAD-2ACE-42DA-A2DA-AC6C7A5C48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A16D09-E312-45A7-86DE-7C5BC7C71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696BB1-B79F-47BD-9D18-2FE858944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74E973-B009-421A-8574-D5D05EF51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90287-200E-403C-891D-528424AE15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70209-E682-4764-A3FB-665E4FC75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E9583-F298-4041-ADC9-BE766A355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63E1A-C1DC-4F87-952C-4317C36F0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015D2C-1EAE-4982-AC87-98A97724EF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AFB100-C4C8-43C6-94C3-4DE3C1E9CE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CFD7A-5CF5-44B5-AC0A-469BFEE0E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1530DD-6D7E-4DF2-9106-41A6010EF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9C05AA-5F79-4C48-BE84-A5780552ED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77F942-8681-436B-99DF-CA7BA58ACA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876E35-9AE3-4DA2-8DBF-2692DA55E2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5D9A9-E19F-44C6-A88F-BEBCC2FD9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AF51E5-D2BC-48B4-8B0E-78CC5302B0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985A24-CD74-4C59-A015-E9FA47193F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EFFCC-2C02-4BAF-8099-08D691FDB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5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0A830D-2EE2-4191-98E7-56D37BE0B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5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ADB90-D3CF-4CEF-8F53-F0B0A06F5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FEAF4-B448-482A-9322-BC805EAC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5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9C6EF8-67C0-4F00-965C-A0FECD8BC3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6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468AB9-FB23-4B68-9CD4-505D92078A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6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9AB86A-E58A-49EB-9B43-8109B720B9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6E1B71-0A43-4ED7-B17F-EE0AEC2CDC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8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8146E7-898B-432A-BE27-79F1DC594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8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4D0360-4044-4AC6-A537-F349DEC0F9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8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34CD49-E58C-48E3-8885-918475761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53F272-184E-46B1-BD36-CC74725E41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31895A-D22D-4DE8-9366-31B546DC91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9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CF28C-4CB7-4C4D-94DA-DC75AF98B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2008C-E109-4CF1-A002-FE77E396E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DC0D2-30E5-469C-93E5-6FBAE35D1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2F7CB-D7F6-4A53-B2BD-5EF3E72A3B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7A74D2-03F2-4BE5-9622-9C862A796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983EA1-1653-4E89-B636-20CB4B1703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1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165445-F9CE-4DBA-9EFA-58653C45CC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5FFDFF3-AC71-4843-94E2-5FC084F33F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2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A187F92-B887-4132-BB30-D31DE6F10E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2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0D6C511-3148-46ED-B946-5AFB2A421D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3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5D8A361-BFC7-4949-B57F-5CAB46CFE6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CBC2F84-45DA-4CED-810F-98F4C0FEFD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8A905-1380-429C-A099-A90B62728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8566327-820E-49FE-BC3D-55DAF48C06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3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2DC3751-F7A4-4721-B97B-89800E0053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4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18DE748-1469-4B30-8A50-63252054E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5D360DC-ED20-431F-8C09-ABE44F22A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4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A853A5D-4D96-4151-9380-2A76978D70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24EF0A3-02CF-4A98-9142-86234A306A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4A65D8A-6285-4020-8346-B87DD904BB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4A2D8A-7182-4147-B7C6-E4400EDFB8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6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617A0F-5AAF-4047-A2C3-69AC139997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7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F5B2E4-21F7-4021-9F08-4B2B1A7384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5B73-4B1E-44F4-8C59-C082AEB69987}" type="slidenum">
              <a:rPr b="0" lang="en-A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5"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0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08" name="PlaceHolder 3"/>
          <p:cNvSpPr>
            <a:spLocks noGrp="1"/>
          </p:cNvSpPr>
          <p:nvPr>
            <p:ph type="sldNum" idx="28"/>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C735-0297-452B-86E7-6C1240F10596}"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09" name="PlaceHolder 4"/>
          <p:cNvSpPr>
            <a:spLocks noGrp="1"/>
          </p:cNvSpPr>
          <p:nvPr>
            <p:ph type="ftr" idx="29"/>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PlaceHolder 5"/>
          <p:cNvSpPr>
            <a:spLocks noGrp="1"/>
          </p:cNvSpPr>
          <p:nvPr>
            <p:ph type="dt" idx="30"/>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4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49" name="PlaceHolder 3"/>
          <p:cNvSpPr>
            <a:spLocks noGrp="1"/>
          </p:cNvSpPr>
          <p:nvPr>
            <p:ph type="dt" idx="3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50" name="PlaceHolder 4"/>
          <p:cNvSpPr>
            <a:spLocks noGrp="1"/>
          </p:cNvSpPr>
          <p:nvPr>
            <p:ph type="sldNum" idx="3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8C45-2155-4F3C-9448-F783C5658772}"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51" name="PlaceHolder 5"/>
          <p:cNvSpPr>
            <a:spLocks noGrp="1"/>
          </p:cNvSpPr>
          <p:nvPr>
            <p:ph type="ftr" idx="3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8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90" name="PlaceHolder 3"/>
          <p:cNvSpPr>
            <a:spLocks noGrp="1"/>
          </p:cNvSpPr>
          <p:nvPr>
            <p:ph type="dt" idx="3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91" name="PlaceHolder 4"/>
          <p:cNvSpPr>
            <a:spLocks noGrp="1"/>
          </p:cNvSpPr>
          <p:nvPr>
            <p:ph type="sldNum" idx="3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87F1-C5F6-436E-81AC-41D62B0B5BF9}"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92" name="PlaceHolder 5"/>
          <p:cNvSpPr>
            <a:spLocks noGrp="1"/>
          </p:cNvSpPr>
          <p:nvPr>
            <p:ph type="ftr" idx="3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9067-0DCB-4730-AE6E-B6BA18EBF424}"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5200"/>
              <a:chOff x="-19080" y="248040"/>
              <a:chExt cx="9181080" cy="565200"/>
            </a:xfrm>
          </p:grpSpPr>
          <p:pic>
            <p:nvPicPr>
              <p:cNvPr id="53" name="Freeform 12" descr=""/>
              <p:cNvPicPr/>
              <p:nvPr/>
            </p:nvPicPr>
            <p:blipFill>
              <a:blip r:embed="rId4"/>
              <a:stretch/>
            </p:blipFill>
            <p:spPr>
              <a:xfrm>
                <a:off x="-3240" y="248040"/>
                <a:ext cx="9165240" cy="565200"/>
              </a:xfrm>
              <a:prstGeom prst="rect">
                <a:avLst/>
              </a:prstGeom>
              <a:ln w="0">
                <a:noFill/>
              </a:ln>
            </p:spPr>
          </p:pic>
          <p:sp>
            <p:nvSpPr>
              <p:cNvPr id="5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2" name="PlaceHolder 2"/>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7AF3-509C-4AC4-A253-308D7F7D0CD9}"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95"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3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34"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A962-AEAB-4A44-B7EF-78EF15D1A1AB}" type="slidenum">
              <a:rPr b="0" lang="en-A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5" name="Group 1"/>
          <p:cNvGrpSpPr/>
          <p:nvPr/>
        </p:nvGrpSpPr>
        <p:grpSpPr>
          <a:xfrm>
            <a:off x="-19080" y="203040"/>
            <a:ext cx="9181080" cy="648000"/>
            <a:chOff x="-19080" y="203040"/>
            <a:chExt cx="9181080" cy="648000"/>
          </a:xfrm>
        </p:grpSpPr>
        <p:grpSp>
          <p:nvGrpSpPr>
            <p:cNvPr id="176" name="Freeform 11"/>
            <p:cNvGrpSpPr/>
            <p:nvPr/>
          </p:nvGrpSpPr>
          <p:grpSpPr>
            <a:xfrm>
              <a:off x="-19080" y="203040"/>
              <a:ext cx="9162720" cy="648000"/>
              <a:chOff x="-19080" y="203040"/>
              <a:chExt cx="9162720" cy="648000"/>
            </a:xfrm>
          </p:grpSpPr>
          <p:pic>
            <p:nvPicPr>
              <p:cNvPr id="177" name="Freeform 11" descr=""/>
              <p:cNvPicPr/>
              <p:nvPr/>
            </p:nvPicPr>
            <p:blipFill>
              <a:blip r:embed="rId3"/>
              <a:stretch/>
            </p:blipFill>
            <p:spPr>
              <a:xfrm>
                <a:off x="3960" y="203040"/>
                <a:ext cx="9139680" cy="648000"/>
              </a:xfrm>
              <a:prstGeom prst="rect">
                <a:avLst/>
              </a:prstGeom>
              <a:ln w="0">
                <a:noFill/>
              </a:ln>
            </p:spPr>
          </p:pic>
          <p:sp>
            <p:nvSpPr>
              <p:cNvPr id="1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9" name="Freeform 12"/>
            <p:cNvGrpSpPr/>
            <p:nvPr/>
          </p:nvGrpSpPr>
          <p:grpSpPr>
            <a:xfrm>
              <a:off x="-19080" y="248040"/>
              <a:ext cx="9181080" cy="565200"/>
              <a:chOff x="-19080" y="248040"/>
              <a:chExt cx="9181080" cy="565200"/>
            </a:xfrm>
          </p:grpSpPr>
          <p:pic>
            <p:nvPicPr>
              <p:cNvPr id="180" name="Freeform 12" descr=""/>
              <p:cNvPicPr/>
              <p:nvPr/>
            </p:nvPicPr>
            <p:blipFill>
              <a:blip r:embed="rId4"/>
              <a:stretch/>
            </p:blipFill>
            <p:spPr>
              <a:xfrm>
                <a:off x="-3240" y="248040"/>
                <a:ext cx="9165240" cy="565200"/>
              </a:xfrm>
              <a:prstGeom prst="rect">
                <a:avLst/>
              </a:prstGeom>
              <a:ln w="0">
                <a:noFill/>
              </a:ln>
            </p:spPr>
          </p:pic>
          <p:sp>
            <p:nvSpPr>
              <p:cNvPr id="1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17BD-08A4-4A3C-8C3B-6DA0EA713B6D}"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Group 1"/>
          <p:cNvGrpSpPr/>
          <p:nvPr/>
        </p:nvGrpSpPr>
        <p:grpSpPr>
          <a:xfrm>
            <a:off x="-19080" y="203040"/>
            <a:ext cx="9181080" cy="648000"/>
            <a:chOff x="-19080" y="203040"/>
            <a:chExt cx="9181080" cy="648000"/>
          </a:xfrm>
        </p:grpSpPr>
        <p:grpSp>
          <p:nvGrpSpPr>
            <p:cNvPr id="226" name="Freeform 11"/>
            <p:cNvGrpSpPr/>
            <p:nvPr/>
          </p:nvGrpSpPr>
          <p:grpSpPr>
            <a:xfrm>
              <a:off x="-19080" y="203040"/>
              <a:ext cx="9162720" cy="648000"/>
              <a:chOff x="-19080" y="203040"/>
              <a:chExt cx="9162720" cy="648000"/>
            </a:xfrm>
          </p:grpSpPr>
          <p:pic>
            <p:nvPicPr>
              <p:cNvPr id="227" name="Freeform 11" descr=""/>
              <p:cNvPicPr/>
              <p:nvPr/>
            </p:nvPicPr>
            <p:blipFill>
              <a:blip r:embed="rId3"/>
              <a:stretch/>
            </p:blipFill>
            <p:spPr>
              <a:xfrm>
                <a:off x="3960" y="203040"/>
                <a:ext cx="9139680" cy="648000"/>
              </a:xfrm>
              <a:prstGeom prst="rect">
                <a:avLst/>
              </a:prstGeom>
              <a:ln w="0">
                <a:noFill/>
              </a:ln>
            </p:spPr>
          </p:pic>
          <p:sp>
            <p:nvSpPr>
              <p:cNvPr id="2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9" name="Freeform 12"/>
            <p:cNvGrpSpPr/>
            <p:nvPr/>
          </p:nvGrpSpPr>
          <p:grpSpPr>
            <a:xfrm>
              <a:off x="-19080" y="248040"/>
              <a:ext cx="9181080" cy="565200"/>
              <a:chOff x="-19080" y="248040"/>
              <a:chExt cx="9181080" cy="565200"/>
            </a:xfrm>
          </p:grpSpPr>
          <p:pic>
            <p:nvPicPr>
              <p:cNvPr id="230" name="Freeform 12" descr=""/>
              <p:cNvPicPr/>
              <p:nvPr/>
            </p:nvPicPr>
            <p:blipFill>
              <a:blip r:embed="rId4"/>
              <a:stretch/>
            </p:blipFill>
            <p:spPr>
              <a:xfrm>
                <a:off x="-3240" y="248040"/>
                <a:ext cx="9165240" cy="565200"/>
              </a:xfrm>
              <a:prstGeom prst="rect">
                <a:avLst/>
              </a:prstGeom>
              <a:ln w="0">
                <a:noFill/>
              </a:ln>
            </p:spPr>
          </p:pic>
          <p:sp>
            <p:nvSpPr>
              <p:cNvPr id="2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1951-B03D-41FA-ABD1-15BA18C4AFB4}"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79"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PlaceHolder 5"/>
          <p:cNvSpPr>
            <a:spLocks noGrp="1"/>
          </p:cNvSpPr>
          <p:nvPr>
            <p:ph type="sldNum" idx="21"/>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D105-39D0-410B-B5CB-5665B32B13E0}"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23" name="PlaceHolder 3"/>
          <p:cNvSpPr>
            <a:spLocks noGrp="1"/>
          </p:cNvSpPr>
          <p:nvPr>
            <p:ph type="dt" idx="2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324" name="PlaceHolder 4"/>
          <p:cNvSpPr>
            <a:spLocks noGrp="1"/>
          </p:cNvSpPr>
          <p:nvPr>
            <p:ph type="sldNum" idx="2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FB0E-37C4-4391-9B47-ED52053EC5A1}"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25" name="PlaceHolder 5"/>
          <p:cNvSpPr>
            <a:spLocks noGrp="1"/>
          </p:cNvSpPr>
          <p:nvPr>
            <p:ph type="ftr" idx="24"/>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6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6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65"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366" name="PlaceHolder 4"/>
          <p:cNvSpPr>
            <a:spLocks noGrp="1"/>
          </p:cNvSpPr>
          <p:nvPr>
            <p:ph type="ftr" idx="2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AD7D-AE59-489C-B827-F2029ABA3207}"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610000" y="781200"/>
            <a:ext cx="4138560" cy="1285560"/>
          </a:xfrm>
          <a:prstGeom prst="rect">
            <a:avLst/>
          </a:prstGeom>
          <a:ln w="0">
            <a:noFill/>
          </a:ln>
        </p:spPr>
      </p:pic>
      <p:pic>
        <p:nvPicPr>
          <p:cNvPr id="530" name="Picture 4" descr="C:\Program Files\Microsoft Office\Media\CntCD1\Animated\j0282880.gif"/>
          <p:cNvPicPr/>
          <p:nvPr/>
        </p:nvPicPr>
        <p:blipFill>
          <a:blip r:embed="rId2"/>
          <a:stretch/>
        </p:blipFill>
        <p:spPr>
          <a:xfrm>
            <a:off x="2000160" y="1928880"/>
            <a:ext cx="5234040" cy="3936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0" y="1213920"/>
            <a:ext cx="9144000" cy="5643720"/>
          </a:xfrm>
          <a:prstGeom prst="rect">
            <a:avLst/>
          </a:prstGeom>
          <a:noFill/>
          <a:ln w="0">
            <a:noFill/>
          </a:ln>
        </p:spPr>
        <p:txBody>
          <a:bodyPr lIns="90000" rIns="90000" tIns="46800" bIns="46800" anchor="t">
            <a:normAutofit/>
          </a:bodyPr>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Constantia"/>
              </a:rPr>
              <a:t>The river was a major food source.</a:t>
            </a:r>
            <a:endParaRPr b="0" lang="en-US" sz="4400" spc="-1" strike="noStrike">
              <a:solidFill>
                <a:srgbClr val="000000"/>
              </a:solidFill>
              <a:latin typeface="Constantia"/>
            </a:endParaRPr>
          </a:p>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Constantia"/>
              </a:rPr>
              <a:t>On its journey through Melbourne and to Port Phillip, it supplies 9 catchment dams and provides drinking water to about 2.6 million households.</a:t>
            </a:r>
            <a:endParaRPr b="0" lang="en-US" sz="4400" spc="-1" strike="noStrike">
              <a:solidFill>
                <a:srgbClr val="000000"/>
              </a:solidFill>
              <a:latin typeface="Constantia"/>
            </a:endParaRPr>
          </a:p>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0" y="2071440"/>
            <a:ext cx="9144000" cy="4786200"/>
          </a:xfrm>
          <a:prstGeom prst="rect">
            <a:avLst/>
          </a:prstGeom>
          <a:noFill/>
          <a:ln w="0">
            <a:noFill/>
          </a:ln>
        </p:spPr>
        <p:txBody>
          <a:bodyPr lIns="90000" rIns="90000" tIns="46800" bIns="46800" anchor="t">
            <a:normAutofit fontScale="96000"/>
          </a:bodyPr>
          <a:p>
            <a:pPr marL="525600" indent="-3945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Book Antiqua"/>
              </a:rPr>
              <a:t>It was a big spot because of the train station and public transport. Flinders Street Railway Station stands at the corner of Flinders and Swanston Streets Melbourne and is the oldest city station in Australia, built in 1854.</a:t>
            </a:r>
            <a:r>
              <a:rPr b="1" lang="en-AU" sz="4400" spc="-1" strike="noStrike">
                <a:solidFill>
                  <a:srgbClr val="ffffff"/>
                </a:solidFill>
                <a:latin typeface="Book Antiqua"/>
              </a:rPr>
              <a:t> </a:t>
            </a:r>
            <a:endParaRPr b="0" lang="en-US" sz="4400" spc="-1" strike="noStrike">
              <a:solidFill>
                <a:srgbClr val="ffffff"/>
              </a:solidFill>
              <a:latin typeface="Book Antiqua"/>
            </a:endParaRPr>
          </a:p>
          <a:p>
            <a:pPr marL="525600" indent="-3945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pic>
        <p:nvPicPr>
          <p:cNvPr id="533" name="Rectangle 3" descr=""/>
          <p:cNvPicPr/>
          <p:nvPr/>
        </p:nvPicPr>
        <p:blipFill>
          <a:blip r:embed="rId1"/>
          <a:stretch/>
        </p:blipFill>
        <p:spPr>
          <a:xfrm>
            <a:off x="128520" y="-171360"/>
            <a:ext cx="9485280" cy="193356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0" y="1643040"/>
            <a:ext cx="9144000" cy="52149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70c0"/>
                </a:solidFill>
                <a:latin typeface="Constantia"/>
              </a:rPr>
              <a:t>John Batman had the potential to become one of the more revered names in Australian history. He is the only native-born Australian to found a state capital city. He spoke Aboriginal languages and was one of the few people of his time to attempt to compensate Aborigines for the use of their land</a:t>
            </a:r>
            <a:endParaRPr b="0" lang="en-US" sz="3600" spc="-1" strike="noStrike">
              <a:solidFill>
                <a:srgbClr val="ffffff"/>
              </a:solidFill>
              <a:latin typeface="Constantia"/>
            </a:endParaRPr>
          </a:p>
        </p:txBody>
      </p:sp>
      <p:pic>
        <p:nvPicPr>
          <p:cNvPr id="535" name="Rectangle 3" descr=""/>
          <p:cNvPicPr/>
          <p:nvPr/>
        </p:nvPicPr>
        <p:blipFill>
          <a:blip r:embed="rId1"/>
          <a:stretch/>
        </p:blipFill>
        <p:spPr>
          <a:xfrm>
            <a:off x="1981080" y="566640"/>
            <a:ext cx="5346720" cy="120168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4:32:50Z</dcterms:created>
  <dc:creator>Education</dc:creator>
  <dc:description/>
  <dc:language>en-US</dc:language>
  <cp:lastModifiedBy>Education</cp:lastModifiedBy>
  <dcterms:modified xsi:type="dcterms:W3CDTF">2009-07-14T05:12:26Z</dcterms:modified>
  <cp:revision>13</cp:revision>
  <dc:subject/>
  <dc:title>Yarra river</dc:title>
</cp:coreProperties>
</file>